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explode.wav" ContentType="audio/x-wav"/>
  <Override PartName="/ppt/media/image7.jpeg" ContentType="image/jpeg"/>
  <Override PartName="/ppt/media/wind.wav" ContentType="audio/x-wav"/>
  <Override PartName="/ppt/media/image12.jpeg" ContentType="image/jpeg"/>
  <Override PartName="/ppt/media/image15.jpeg" ContentType="image/jpeg"/>
  <Override PartName="/ppt/media/image14.jpeg" ContentType="image/jpeg"/>
  <Override PartName="/ppt/media/laser.wav" ContentType="audio/x-wav"/>
  <Override PartName="/ppt/media/image4.jpeg" ContentType="image/jpeg"/>
  <Override PartName="/ppt/media/coin.wav" ContentType="audio/x-wav"/>
  <Override PartName="/ppt/media/image13.jpeg" ContentType="image/jpeg"/>
  <Override PartName="/ppt/media/image1.jpeg" ContentType="image/jpeg"/>
  <Override PartName="/ppt/media/image6.jpeg" ContentType="image/jpeg"/>
  <Override PartName="/ppt/media/applause.wav" ContentType="audio/x-wav"/>
  <Override PartName="/ppt/media/drumroll.wav" ContentType="audio/x-wav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4F95-A1C1-46A9-A13D-7D389F0126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6CB2-95F5-472E-96D2-46DEFF1F2E2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08F-303F-49DA-B7CE-39441BC4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952-9811-4DBC-B446-DEC55727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26B-24A8-44B4-B576-EB15B0A0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DBE-782C-4CC3-9819-B8A2B526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2DBD-6B20-4491-BFF3-7E64A086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DE9A-66C9-4A1E-B167-C74795D9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CE13-9A0D-4CF0-9E3E-AE244BBE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1951-F1CD-4507-BB31-A2CAC2B4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68D5-316D-4C8B-8612-5617128E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6DCF-6F17-4CAD-A67E-D5E2AEED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CD92-E418-4576-966C-A8F680B2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F28-EA28-423E-A69B-3C85443B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DEB9-4EF5-491A-9C0A-B02C1521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1D6E-AEDE-43DD-9CAB-EAEA92C6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4018-52ED-4755-A2E9-B80CF7BB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B786-3A9E-4D7B-B6F4-3FC32AB4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F1EF-6C31-43D2-B4BB-281BE399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F3D-7BF2-44CC-845E-F11D0243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FD6-5DCF-43B5-AA76-840FD4CB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616-22E1-44DC-87BB-AA8E55C0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68D-3996-4D07-AE12-82B2D288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A54-A343-4FBF-8386-6C7B2815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A48-04B9-47AE-9A30-B0152492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EAA-695E-477C-A279-C52F6C3A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8E3D-B7B5-4059-A0A4-B9DDDD6C59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C62A-57FA-4D60-BA9A-929064773B3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5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2" descr="Vladmir.jpg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Boris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edvedev-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http://t3.gstatic.com/images?q=tbn:ANd9GcQr1LrsoHQJr2uxSzMsdhx395TqtyZyG01UdLX_-3E5rMYvy2uQqA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8" descr="http://t1.gstatic.com/images?q=tbn:ANd9GcRF70OPQIR3zOL9oapKiZ9YjfRqff5-mYMutL1Pnzm35yDv8Iy7oA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a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2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2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3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3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3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3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4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4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4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AutoShape 4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  <p:sndAc>
      <p:stSnd>
        <p:snd r:embed="rId6" name="explode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5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6" name="push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7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51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5" descr="http://t3.gstatic.com/images?q=tbn:ANd9GcQrAerm14nb-BZU2l2kSMlqHK7SlIktJV1Zck1y2FOacLooI4kGkjuAW6NcBQ"/>
          <p:cNvPicPr/>
          <p:nvPr/>
        </p:nvPicPr>
        <p:blipFill>
          <a:blip r:embed="rId1"/>
          <a:stretch/>
        </p:blipFill>
        <p:spPr>
          <a:xfrm>
            <a:off x="609480" y="1143000"/>
            <a:ext cx="1676520" cy="181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http://t3.gstatic.com/images?q=tbn:ANd9GcSELAMPGTLf-YyiFNWskzcN3QHp8wgvE02cal00Dza5ecMVCeFv"/>
          <p:cNvPicPr/>
          <p:nvPr/>
        </p:nvPicPr>
        <p:blipFill>
          <a:blip r:embed="rId2"/>
          <a:stretch/>
        </p:blipFill>
        <p:spPr>
          <a:xfrm>
            <a:off x="2743200" y="1066680"/>
            <a:ext cx="2467080" cy="18576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9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15" descr="http://t1.gstatic.com/images?q=tbn:ANd9GcTyxYa-f3CEnibGYexTF4Sof0M4tVNsF6QM2oA-M-ipi-v6IVg3Wg"/>
          <p:cNvPicPr/>
          <p:nvPr/>
        </p:nvPicPr>
        <p:blipFill>
          <a:blip r:embed="rId3"/>
          <a:stretch/>
        </p:blipFill>
        <p:spPr>
          <a:xfrm>
            <a:off x="58672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4" name="laser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9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71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73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2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3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3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10" descr="http://t2.gstatic.com/images?q=tbn:ANd9GcTmHhecxNYF-oN6Z9oOtV9KWl9UIoyzlLo8tQ-fGOMOu-lCJjFtAQ"/>
          <p:cNvPicPr/>
          <p:nvPr/>
        </p:nvPicPr>
        <p:blipFill>
          <a:blip r:embed="rId1"/>
          <a:stretch/>
        </p:blipFill>
        <p:spPr>
          <a:xfrm>
            <a:off x="2438280" y="1219320"/>
            <a:ext cx="4191120" cy="319536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1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14" descr="http://t1.gstatic.com/images?q=tbn:ANd9GcRAlRH6_JF5cTml1-166vc2ZAjV8Hsb2hFqKPBNGHMULcckOH7xbQ"/>
          <p:cNvPicPr/>
          <p:nvPr/>
        </p:nvPicPr>
        <p:blipFill>
          <a:blip r:embed="rId2"/>
          <a:stretch/>
        </p:blipFill>
        <p:spPr>
          <a:xfrm>
            <a:off x="2362320" y="1371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wind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335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114300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9999"/>
                </a:solidFill>
                <a:latin typeface="Snap ITC"/>
              </a:rPr>
              <a:t>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 rot="19654800">
            <a:off x="1415880" y="27399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Box 7"/>
          <p:cNvSpPr/>
          <p:nvPr/>
        </p:nvSpPr>
        <p:spPr>
          <a:xfrm rot="19483800">
            <a:off x="1402560" y="2739960"/>
            <a:ext cx="64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y is the title on the bottom??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Box 8"/>
          <p:cNvSpPr/>
          <p:nvPr/>
        </p:nvSpPr>
        <p:spPr>
          <a:xfrm rot="19345200">
            <a:off x="3105000" y="27795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h I have an idea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838080" y="6858000"/>
            <a:ext cx="4343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5029200" y="608796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98d3"/>
                </a:solidFill>
                <a:latin typeface="Verdana"/>
              </a:rPr>
              <a:t>???????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lu"/>
    <p:sndAc>
      <p:stSnd>
        <p:snd r:embed="rId1" name="coin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6285 -0.09606 C 0.06649 -0.16759 0.07517 -0.23333 0.08264 -0.30393 C 0.08715 -0.34583 0.08889 -0.38773 0.09462 -0.42939 C 0.09722 -0.47523 0.09809 -0.5206 0.09931 -0.56666 C 0.09965 -0.57685 0.09983 -0.58703 0.10069 -0.59699 C 0.10139 -0.60439 0.09826 -0.61782 0.10382 -0.61921 C 0.13559 -0.62754 0.1684 -0.62175 0.20069 -0.62314 C 0.20781 -0.628 0.21111 -0.63449 0.21736 -0.64143 C 0.2184 -0.6456 0.2217 -0.64907 0.22205 -0.65347 C 0.22847 -0.75115 0.21944 -0.6905 0.225 -0.72615 C 0.22552 -0.73842 0.22622 -0.75046 0.22656 -0.76273 C 0.22917 -0.84745 0.23941 -0.83125 0.17656 -0.83125 E">
                                      <p:cBhvr>
                                        <p:cTn id="52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5c000"/>
                </a:solidFill>
                <a:latin typeface="Forte"/>
              </a:rPr>
              <a:t>Last Fast Fact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1" name="push.wav"/>
      </p:stSnd>
    </p:sndAc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6"/>
          <p:cNvSpPr/>
          <p:nvPr/>
        </p:nvSpPr>
        <p:spPr>
          <a:xfrm>
            <a:off x="1523880" y="1905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379760" y="2743200"/>
            <a:ext cx="184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380880" y="30492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is By: Peter Gagne, Ryan Lin, and Jason Ku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Hope you enjoyed it!!!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at’s a wrap!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was brought to you by: Mr. Griffith's Social Study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Sponsors: None we did this for fre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ll our included information is from the “Glencoe Geography: the World and Its People” and images from Goog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1981080" y="20574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i="1" lang="en-US" sz="9600" spc="-1" strike="noStrike" u="sng">
                <a:solidFill>
                  <a:srgbClr val="000000"/>
                </a:solidFill>
                <a:uFillTx/>
                <a:latin typeface="Script MT Bold"/>
              </a:rPr>
              <a:t>The     End!!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  <p:sndAc>
      <p:stSnd>
        <p:snd r:embed="rId1" name="applause.wav"/>
      </p:stSnd>
    </p:sndAc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KUNG</cp:lastModifiedBy>
  <dcterms:modified xsi:type="dcterms:W3CDTF">2010-12-19T22:19:01Z</dcterms:modified>
  <cp:revision>24</cp:revision>
  <dc:subject/>
  <dc:title>Present Day Russia</dc:title>
</cp:coreProperties>
</file>